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0D2-E852-4AC3-AC5D-B75D0D6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0A3-BA08-4EFF-9F79-BBC26445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5DB-1647-478B-BBC0-B954ACF5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A8E-1F6C-41D2-87D6-A3DA3407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AF1-D471-4A95-95AA-68CD355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F7B-499F-4318-9EFE-3BF233EF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44F-B4D7-44D5-959B-45658E45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2E1-A807-457A-9CF9-05E0ADE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319-A31E-4ECC-BC27-8AF65BFD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30D-1E67-40F8-9EFA-D3E248E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6EE-D0FD-47D1-AD45-D730EEE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432-6372-445B-9E1D-E56BBB34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1A2EB9EA-DD4F-49D8-9B9B-01E2E525F89A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esentation Title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subtit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Your title,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for y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opic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r" pos="531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opic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1E3-BE33-43B7-9BD1-852CC8F3FF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EXPReS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= Express Production Real-time e-VLBI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project, started March 2006, funded by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to create a distributed, large-scale astronomical instrument of continental and inter-continental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: high-speed communication networks operating in real-time and connecting some of the largest and most sensitive radio telescopes on the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370-F802-4EC1-A964-87CA21F763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Institute for VLBI in Europe (coordin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RNET Pty Ltd.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, The 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o Nacional de Informacion Geografica,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lmers Tekniska Hoegskola Aktiebolag, 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wealth Scientific and Industrial Research Organization (CSIRO),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ll University,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y of Advanced Network Technology to Europe Ltd. (DANTE),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ituto Nazionale di Astrofisica,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ytut Chemii Bioorganicznej PAN, Po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Planck Gesellschaft zur Foerderung der Wissenschaften e.V.,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Research Foundation, South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nghai Astronomical Observatory, Chinese Academy of Sciences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Net b.v., The 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knillinen Korkeakoulu, F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niversity of Manchester,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idad de Concepcion,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wersytet Mikolaja Kopernika, Po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spils Augstskola, Lat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665-45A2-439B-9BC0-D59C5FE19A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635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elescope sites participa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courtesy of Dr. Francisco Colo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853-38C9-48E5-9911-163428F273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vit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Coordin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 Garrett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of 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arles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N-NREN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hevers, 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LBI Science For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onway, Chal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utr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stine Yun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Servi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ovisio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isco Colomer, CNIG-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1195560"/>
                <a:tab algn="l" pos="3938760"/>
                <a:tab algn="l" pos="5721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A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ib Jan van Langevelde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A70-2DE2-464C-8C79-161AB0382A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r tit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you]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C6C-323A-488D-919A-7209BB8529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Kristine Yun</cp:lastModifiedBy>
  <dcterms:modified xsi:type="dcterms:W3CDTF">2006-11-08T09:36:12Z</dcterms:modified>
  <cp:revision>20</cp:revision>
  <dc:subject/>
  <dc:title>Slide 1</dc:title>
</cp:coreProperties>
</file>